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4EF-7A7C-48D3-B72B-6259F407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683-49A9-46F7-BFED-11DA57FD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05E-BCC2-4509-A1BF-6169F673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4FE-5C10-4A1D-9B7F-BAEE8A14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684-1192-4CBC-B117-31353EDC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1D6-506E-4E0A-80D1-F15F251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673-65A7-4B6F-8999-E8E7C61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7E5-BE65-4487-9B65-0239676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186-FAB0-40F6-83B3-2E625E24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5B5-B245-4B80-8D6A-821EF66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14E-CC8A-47ED-8B77-22A8C23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182-BB31-4263-BDCC-471FFA0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011D-4932-4E23-B78E-6D32ECEC58C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fiweb.net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49920" y="177840"/>
            <a:ext cx="1882800" cy="173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268280"/>
            <a:ext cx="7292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400"/>
                </a:solidFill>
                <a:latin typeface="Times New Roman"/>
              </a:rPr>
              <a:t>Le lin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00"/>
                </a:solidFill>
                <a:latin typeface="Times New Roman"/>
              </a:rPr>
              <a:t>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400"/>
                </a:solidFill>
                <a:latin typeface="Times New Roman"/>
              </a:rPr>
              <a:t>Laboratorio Territoriale </a:t>
            </a:r>
            <a:r>
              <a:rPr b="1" lang="en-US" sz="3600" spc="-1" strike="noStrike">
                <a:solidFill>
                  <a:srgbClr val="005400"/>
                </a:solidFill>
                <a:latin typeface="Times New Roman"/>
              </a:rPr>
              <a:t>per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5400"/>
                </a:solidFill>
                <a:latin typeface="Times New Roman"/>
              </a:rPr>
              <a:t>servizi formativi integra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73408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gno 21 Ottobre 200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zi territoriali per l’inte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alter M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9560" y="311040"/>
            <a:ext cx="627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Laboratorio,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ichied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za sul territorio di 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ov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ruttu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 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a dotazione di organici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a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piuttosto la </a:t>
            </a:r>
            <a:r>
              <a:rPr b="1" lang="en-US" sz="3600" spc="-1" strike="noStrike" u="sng">
                <a:solidFill>
                  <a:srgbClr val="41d3d0"/>
                </a:solidFill>
                <a:uFillTx/>
                <a:latin typeface="Times New Roman"/>
              </a:rPr>
              <a:t>capacit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1d3d0"/>
                </a:solidFill>
                <a:uFillTx/>
                <a:latin typeface="Times New Roman"/>
              </a:rPr>
              <a:t>organizz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mess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re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mativ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gesti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za e on-l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D35-AFA1-47A9-954B-76CF52CAD9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46280" y="333360"/>
            <a:ext cx="616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Un aspetto che de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aratterizzare il Laboratorio è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62dbd8"/>
                </a:solidFill>
                <a:uFillTx/>
                <a:latin typeface="Times New Roman"/>
              </a:rPr>
              <a:t>dimension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 u="sng">
                <a:solidFill>
                  <a:srgbClr val="ff9933"/>
                </a:solidFill>
                <a:uFillTx/>
                <a:latin typeface="Times New Roman"/>
              </a:rPr>
              <a:t>territorial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, ch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econda dei casi può ess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vinciale o subprovincia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783-D41C-4383-ACD2-16084F586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9360" y="220680"/>
            <a:ext cx="623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l criter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 definire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mensione territoriale è 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esenz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u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cc"/>
                </a:solidFill>
                <a:uFillTx/>
                <a:latin typeface="Times New Roman"/>
              </a:rPr>
              <a:t>filie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istitu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e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cent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form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fessionale che coprano,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re dalla scuola media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u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dirizz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conda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erio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n modo da rend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 i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passagg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i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rientr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EA1-8947-4B39-BD53-43FC08CD79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480960"/>
            <a:ext cx="831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 livello regionale delle rete dei labor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-42840"/>
            <a:ext cx="820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l Governo del sistema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125360"/>
            <a:ext cx="2089440" cy="1213200"/>
          </a:xfrm>
          <a:prstGeom prst="ellipse">
            <a:avLst/>
          </a:prstGeom>
          <a:solidFill>
            <a:srgbClr val="ccffcc">
              <a:alpha val="70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1413000"/>
            <a:ext cx="206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Times New Roman"/>
              </a:rPr>
              <a:t>REG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520" y="1862280"/>
            <a:ext cx="38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ferimento istitu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60" y="2273400"/>
            <a:ext cx="3095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entro Ris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492280"/>
            <a:ext cx="3529080" cy="2016360"/>
          </a:xfrm>
          <a:prstGeom prst="ellipse">
            <a:avLst/>
          </a:prstGeom>
          <a:solidFill>
            <a:srgbClr val="ccffff"/>
          </a:solidFill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852640"/>
            <a:ext cx="282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ENTRO RISORSE PROVIN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3284640"/>
            <a:ext cx="34560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ordinamento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lla r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5373720"/>
            <a:ext cx="62658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istema di istruzione e della formazione profess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4292640"/>
            <a:ext cx="1879560" cy="9237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4365720"/>
            <a:ext cx="17859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Laboratorio territo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90760" y="3850920"/>
            <a:ext cx="1014120" cy="78804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4365720"/>
            <a:ext cx="1879560" cy="9255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508640"/>
            <a:ext cx="1847880" cy="909360"/>
          </a:xfrm>
          <a:prstGeom prst="ellipse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4460760"/>
            <a:ext cx="178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Laboratorio territo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75320" y="4207320"/>
            <a:ext cx="157320" cy="44676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22800" y="1916280"/>
            <a:ext cx="565200" cy="1023840"/>
          </a:xfrm>
          <a:prstGeom prst="upDownArrow">
            <a:avLst>
              <a:gd name="adj1" fmla="val 50065"/>
              <a:gd name="adj2" fmla="val 46964"/>
            </a:avLst>
          </a:prstGeom>
          <a:solidFill>
            <a:srgbClr val="ff9900">
              <a:alpha val="7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1846440"/>
            <a:ext cx="381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UFFICIO SCOLASTICO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90800" y="3646080"/>
            <a:ext cx="1051920" cy="95832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6800" y="4572000"/>
            <a:ext cx="1785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Laboratorio territor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44D-485A-4B94-B636-B2C3E2108C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58840" y="71280"/>
            <a:ext cx="6743880" cy="914400"/>
          </a:xfrm>
          <a:prstGeom prst="rect">
            <a:avLst/>
          </a:prstGeom>
          <a:solidFill>
            <a:srgbClr val="ffffcc"/>
          </a:solidFill>
          <a:ln w="25560">
            <a:solidFill>
              <a:srgbClr val="a4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REGIONE / DIREZIONE REG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1440" y="650880"/>
            <a:ext cx="5600520" cy="947160"/>
          </a:xfrm>
          <a:prstGeom prst="rect">
            <a:avLst/>
          </a:prstGeom>
          <a:solidFill>
            <a:srgbClr val="ffff99">
              <a:alpha val="70000"/>
            </a:srgbClr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MMINISTRAZIONI</a:t>
            </a:r>
            <a:r>
              <a:rPr b="1" lang="en-US" sz="26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PROVIN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MMINISTARAZIONE</a:t>
            </a:r>
            <a:r>
              <a:rPr b="1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SCOLA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637000"/>
            <a:ext cx="6120000" cy="1439640"/>
          </a:xfrm>
          <a:prstGeom prst="rect">
            <a:avLst/>
          </a:prstGeom>
          <a:solidFill>
            <a:srgbClr val="ffff99">
              <a:alpha val="70000"/>
            </a:srgbClr>
          </a:solidFill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LABORATORIO TERRITORIALE 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PER I SERVIZI FORM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5086440"/>
            <a:ext cx="6120000" cy="1438200"/>
          </a:xfrm>
          <a:prstGeom prst="rect">
            <a:avLst/>
          </a:prstGeom>
          <a:solidFill>
            <a:srgbClr val="ffff99">
              <a:alpha val="70000"/>
            </a:srgbClr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CUOLE E CENTRI DI FORMAZIONE PROFESS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1614600"/>
            <a:ext cx="352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0000ff"/>
                </a:solidFill>
                <a:uFillTx/>
                <a:latin typeface="Times New Roman"/>
              </a:rPr>
              <a:t>Programmazione</a:t>
            </a: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dell’offerta form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3860640"/>
            <a:ext cx="3673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Domanda/</a:t>
            </a:r>
            <a:br>
              <a:rPr sz="2800"/>
            </a:br>
            <a:r>
              <a:rPr b="1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Analisi dei bisog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341360"/>
            <a:ext cx="1028880" cy="1511280"/>
          </a:xfrm>
          <a:prstGeom prst="upDownArrow">
            <a:avLst>
              <a:gd name="adj1" fmla="val 45065"/>
              <a:gd name="adj2" fmla="val 42120"/>
            </a:avLst>
          </a:prstGeom>
          <a:solidFill>
            <a:srgbClr val="ff9900">
              <a:alpha val="40000"/>
            </a:srgbClr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5120" y="3895560"/>
            <a:ext cx="1028520" cy="1333800"/>
          </a:xfrm>
          <a:prstGeom prst="upDownArrow">
            <a:avLst>
              <a:gd name="adj1" fmla="val 45065"/>
              <a:gd name="adj2" fmla="val 37187"/>
            </a:avLst>
          </a:prstGeom>
          <a:solidFill>
            <a:srgbClr val="ff9900">
              <a:alpha val="40000"/>
            </a:srgbClr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98900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58580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Livello </a:t>
            </a:r>
            <a:br>
              <a:rPr sz="2800"/>
            </a:b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interistitu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40910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Progettazione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/</a:t>
            </a:r>
            <a:br>
              <a:rPr sz="2800"/>
            </a:b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integrazione dei serv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929-B33A-4F89-94ED-D76B33A469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2760" y="166680"/>
            <a:ext cx="626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l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che pensiamo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rre, in via sperimentale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vr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e asse central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’off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48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stina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al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tituzion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colastiche incentr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 orientamento, crediti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sserelle, stage e alter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5EC-46F5-4164-B282-8C4657AAD2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8080" y="380880"/>
            <a:ext cx="2209680" cy="21495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90440" y="812880"/>
            <a:ext cx="28083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4800" y="3448080"/>
            <a:ext cx="2209680" cy="2171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4014720"/>
            <a:ext cx="273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SAGG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I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RT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1880" y="495360"/>
            <a:ext cx="2362320" cy="24192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1760" y="979560"/>
            <a:ext cx="2514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IONI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ZIONE E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STEGNO DOC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82840" y="4610160"/>
            <a:ext cx="2210040" cy="2171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9920" y="5013360"/>
            <a:ext cx="2514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ROCIN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UOLA /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2240" y="3227400"/>
            <a:ext cx="2359080" cy="240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27720" y="3747960"/>
            <a:ext cx="2700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ZI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CUM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SIFIweb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1568520"/>
            <a:ext cx="3801960" cy="3459240"/>
          </a:xfrm>
          <a:prstGeom prst="ellipse">
            <a:avLst/>
          </a:prstGeom>
          <a:solidFill>
            <a:srgbClr val="ccffff">
              <a:alpha val="50000"/>
            </a:srgbClr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1844640"/>
            <a:ext cx="36003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BORATORIO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RRITORIALE 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’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VIZI FORM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8680" y="3078000"/>
            <a:ext cx="31320" cy="11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3840" y="4802040"/>
            <a:ext cx="102960" cy="5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31880" y="4642560"/>
            <a:ext cx="101880" cy="5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77400" y="1593720"/>
            <a:ext cx="111600" cy="29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001920" y="3076920"/>
            <a:ext cx="21600" cy="113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89520" y="1720800"/>
            <a:ext cx="101520" cy="5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DELLO  LABORATORIO TERRITORIALE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’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1CC-462A-42B6-A96A-4015AB9AF7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127080"/>
            <a:ext cx="640080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ti, Istituzioni che gestiscono la Rete del Laboratorio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909720"/>
            <a:ext cx="601560" cy="647640"/>
          </a:xfrm>
          <a:prstGeom prst="downArrow">
            <a:avLst>
              <a:gd name="adj1" fmla="val 27491"/>
              <a:gd name="adj2" fmla="val 47336"/>
            </a:avLst>
          </a:prstGeom>
          <a:solidFill>
            <a:srgbClr val="a400a4">
              <a:alpha val="4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2080" y="2066760"/>
            <a:ext cx="3882960" cy="4457880"/>
          </a:xfrm>
          <a:prstGeom prst="rect">
            <a:avLst/>
          </a:prstGeom>
          <a:solidFill>
            <a:srgbClr val="ffff5b">
              <a:alpha val="7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SI  E RILETTUR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I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ISOG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AZI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venti formativi 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gra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UPPOR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ENTI E OPE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22560" y="1531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857240"/>
            <a:ext cx="2604960" cy="4000680"/>
          </a:xfrm>
          <a:prstGeom prst="rect">
            <a:avLst/>
          </a:prstGeom>
          <a:solidFill>
            <a:srgbClr val="ccffcc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Ut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hiedo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pporto alla realizzazione di progetti  s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ge e alt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aggi e cred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1971720"/>
            <a:ext cx="2735280" cy="4697280"/>
          </a:xfrm>
          <a:prstGeom prst="rect">
            <a:avLst/>
          </a:prstGeom>
          <a:solidFill>
            <a:srgbClr val="ccffff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i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ORMAZION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e opportunità presenti nella 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ROGAZIONE DEL SERVIZI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a persona e alle Istitu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FFUSIONE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/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34136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88280" y="1484280"/>
            <a:ext cx="114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3600" y="4216320"/>
            <a:ext cx="914400" cy="365040"/>
          </a:xfrm>
          <a:prstGeom prst="leftRightArrow">
            <a:avLst>
              <a:gd name="adj1" fmla="val 46148"/>
              <a:gd name="adj2" fmla="val 79612"/>
            </a:avLst>
          </a:prstGeom>
          <a:solidFill>
            <a:srgbClr val="ff9900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3600" y="3716280"/>
            <a:ext cx="914400" cy="365040"/>
          </a:xfrm>
          <a:prstGeom prst="leftRightArrow">
            <a:avLst>
              <a:gd name="adj1" fmla="val 46148"/>
              <a:gd name="adj2" fmla="val 79612"/>
            </a:avLst>
          </a:prstGeom>
          <a:solidFill>
            <a:srgbClr val="ff9900">
              <a:alpha val="8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20480" y="658008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74E-04A8-4085-804C-6A17A4C944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76360" y="260280"/>
            <a:ext cx="66978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tenu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l tempo del laboratorio,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oca sul coinvolgimento e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agonismo dei soggett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prattutto si gio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llo sviluppo  dell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rete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-l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l </a:t>
            </a:r>
            <a:r>
              <a:rPr b="1" lang="en-US" sz="2800" spc="-1" strike="noStrike">
                <a:solidFill>
                  <a:srgbClr val="41d3d0"/>
                </a:solidFill>
                <a:latin typeface="Times New Roman"/>
              </a:rPr>
              <a:t>sito SIF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te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tivit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volte dai singoli partecipa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a re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sulta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cer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ll’integ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 serviz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cumen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riferimento alle esperi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integ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7FB-7CA4-47C1-BE91-86EC93C002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189000"/>
            <a:ext cx="84250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ltura dell’integr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richie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cre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struttu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pac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coordin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di mettere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rel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o stabi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uole  con la form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fessiona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n’offer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servizi integra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 abbiano al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entro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uden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5BB-2551-4C8A-8B24-2EF78BE077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487520"/>
            <a:ext cx="84981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gg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nc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’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organizzazione territoria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4800" spc="-1" strike="noStrike" u="sng">
                <a:solidFill>
                  <a:srgbClr val="ff6600"/>
                </a:solidFill>
                <a:uFillTx/>
                <a:latin typeface="Times New Roman"/>
              </a:rPr>
              <a:t>mettere</a:t>
            </a:r>
            <a:r>
              <a:rPr b="0" lang="en-US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sistem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le </a:t>
            </a:r>
            <a:r>
              <a:rPr b="0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esperien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re lor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isibilit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inuità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13F-1F66-4522-B51B-BC3E2E54B2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8720" y="841320"/>
            <a:ext cx="83516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e un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gover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l’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offerta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formati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llo di territorio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soddisf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una domanda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ov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isogn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mativi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rge da un’utenza, sempre pi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erogene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c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spr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99"/>
                </a:solidFill>
                <a:uFillTx/>
                <a:latin typeface="Times New Roman"/>
              </a:rPr>
              <a:t>diritto soggettiv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formazion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B36-0ABF-474E-BEEF-824F8DEC8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139760"/>
            <a:ext cx="633744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al è il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modell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 riferimento de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boratorio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04F-C2F5-4851-95B7-1A68E371F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8040" y="112680"/>
            <a:ext cx="646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3600" spc="-1" strike="noStrike" u="sng">
                <a:solidFill>
                  <a:srgbClr val="808000"/>
                </a:solidFill>
                <a:uFillTx/>
                <a:latin typeface="Times New Roman"/>
              </a:rPr>
              <a:t>concet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integrazione 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ziare è quello che ha c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centralit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uden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el su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iluppo di apprendiment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’integrazione si configu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 un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potenzi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l’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offerta formativa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ina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rantita dall’istitu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lastica ed è finalizzata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rantire il successo formativo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tu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gli 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studen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844-6C9F-4BA1-B2E9-FC6E3AFA0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6320" y="382680"/>
            <a:ext cx="617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siamo all’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grazi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 un insieme di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zion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didattic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form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educ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 il sistem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aranti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mett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n gr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 studente di affrontare le fas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sse del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passagg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B25-CEEF-408F-9C2A-C4E23826B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5800" y="549360"/>
            <a:ext cx="625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 quale struttura sar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ganizzato i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boratorio Territorial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78A-7131-4CC9-9F6B-F7ECEB0726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1040" y="189000"/>
            <a:ext cx="62341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nsiamo ad un Centro Risor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ato su una struttu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Times New Roman"/>
              </a:rPr>
              <a:t>organizzati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ccff"/>
                </a:solidFill>
                <a:uFillTx/>
                <a:latin typeface="Times New Roman"/>
              </a:rPr>
              <a:t>legge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entrata sul </a:t>
            </a:r>
            <a:r>
              <a:rPr b="1" lang="en-US" sz="3600" spc="-1" strike="noStrike" u="sng">
                <a:solidFill>
                  <a:srgbClr val="00deb4"/>
                </a:solidFill>
                <a:uFillTx/>
                <a:latin typeface="Times New Roman"/>
              </a:rPr>
              <a:t>concet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i  </a:t>
            </a:r>
            <a:r>
              <a:rPr b="1" lang="en-US" sz="4800" spc="-1" strike="noStrike" u="sng">
                <a:solidFill>
                  <a:srgbClr val="ff9933"/>
                </a:solidFill>
                <a:uFillTx/>
                <a:latin typeface="Times New Roman"/>
              </a:rPr>
              <a:t>rete</a:t>
            </a:r>
            <a:r>
              <a:rPr b="0" lang="en-US" sz="48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Servizi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9933"/>
                </a:solidFill>
                <a:uFillTx/>
                <a:latin typeface="Times New Roman"/>
              </a:rPr>
              <a:t>Formativ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he og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tituzione scolastica e centro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zione professionale pu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frire e ricev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20480" y="652464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. Moro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ervizi territoriali per l’integ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4B5-DD97-44EA-BDBF-30C6B18B7A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0:02:49Z</dcterms:created>
  <dc:creator>barton</dc:creator>
  <dc:description/>
  <dc:language>en-US</dc:language>
  <cp:lastModifiedBy>berta</cp:lastModifiedBy>
  <dcterms:modified xsi:type="dcterms:W3CDTF">2002-07-06T18:31:02Z</dcterms:modified>
  <cp:revision>16</cp:revision>
  <dc:subject/>
  <dc:title>Diapositiva 1</dc:title>
</cp:coreProperties>
</file>