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FD5-1A1F-477A-993B-7F312A8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2E4-4CDE-4495-ACF3-935D0A18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940-3F18-4461-A7DB-F037755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C5E-AA15-491E-8B13-84C0A103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09A-E8E6-45B6-838D-F52726C4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F5C-0BDB-465A-8053-E54420A2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990-0FAE-4A20-B10B-B0C287B6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A34-AB03-4A85-A7C3-41DF897F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09B-FAAE-4B4B-BF36-863E667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70D-119A-4FC3-8903-9032DD8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7DF-7EA7-4C58-8C4C-6950F7EA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BFA-6ABA-41C0-9879-8CAAEF8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4120" indent="-252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656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972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0972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0972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lstStyle>
            <a:lvl1pPr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lstStyle>
            <a:lvl1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lstStyle>
            <a:lvl1pPr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fld id="{FC880C78-7629-41F0-89DB-19CB58C99D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5360" y="609120"/>
            <a:ext cx="8915040" cy="1261080"/>
            <a:chOff x="495360" y="609120"/>
            <a:chExt cx="8915040" cy="1261080"/>
          </a:xfrm>
        </p:grpSpPr>
        <p:sp>
          <p:nvSpPr>
            <p:cNvPr id="42" name=""/>
            <p:cNvSpPr/>
            <p:nvPr/>
          </p:nvSpPr>
          <p:spPr>
            <a:xfrm>
              <a:off x="609480" y="838800"/>
              <a:ext cx="685800" cy="343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9360" y="152712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360" y="118188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3600" y="141084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16200000">
              <a:off x="571680" y="1182960"/>
              <a:ext cx="122004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04920" y="2743200"/>
            <a:ext cx="92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768320"/>
            <a:ext cx="67057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ità/prodotto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mazione dell’uomo e del cittad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ta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raccorda c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99061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905120"/>
            <a:ext cx="2971800" cy="533160"/>
          </a:xfrm>
          <a:prstGeom prst="rect">
            <a:avLst/>
          </a:prstGeom>
          <a:noFill/>
          <a:ln w="2844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648320"/>
            <a:ext cx="3200400" cy="533160"/>
          </a:xfrm>
          <a:prstGeom prst="rect">
            <a:avLst/>
          </a:prstGeom>
          <a:noFill/>
          <a:ln w="2844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5800" y="2590920"/>
            <a:ext cx="577800" cy="690480"/>
          </a:xfrm>
          <a:prstGeom prst="downArrow">
            <a:avLst>
              <a:gd name="adj1" fmla="val 50000"/>
              <a:gd name="adj2" fmla="val 29875"/>
            </a:avLst>
          </a:prstGeom>
          <a:solidFill>
            <a:srgbClr val="dc042d"/>
          </a:solidFill>
          <a:ln w="936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886200"/>
            <a:ext cx="577800" cy="690480"/>
          </a:xfrm>
          <a:prstGeom prst="downArrow">
            <a:avLst>
              <a:gd name="adj1" fmla="val 50000"/>
              <a:gd name="adj2" fmla="val 29875"/>
            </a:avLst>
          </a:prstGeom>
          <a:solidFill>
            <a:srgbClr val="dc042d"/>
          </a:solidFill>
          <a:ln w="936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IL SISTEMA REGIONALE</a:t>
            </a:r>
            <a:br>
              <a:rPr sz="3900"/>
            </a:br>
            <a:r>
              <a:rPr b="1" lang="en-US" sz="24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della formazione e dell’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135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1676520"/>
            <a:ext cx="7491600" cy="4568760"/>
            <a:chOff x="1066680" y="1676520"/>
            <a:chExt cx="7491600" cy="4568760"/>
          </a:xfrm>
        </p:grpSpPr>
        <p:sp>
          <p:nvSpPr>
            <p:cNvPr id="141" name=""/>
            <p:cNvSpPr/>
            <p:nvPr/>
          </p:nvSpPr>
          <p:spPr>
            <a:xfrm>
              <a:off x="1103400" y="1676520"/>
              <a:ext cx="13017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ENTI LOCA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6680" y="2535120"/>
              <a:ext cx="1447920" cy="712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G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6680" y="3997440"/>
              <a:ext cx="1447920" cy="71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5495760"/>
              <a:ext cx="1447920" cy="711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U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10360" y="1714680"/>
              <a:ext cx="1303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TA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10360" y="2498760"/>
              <a:ext cx="1447920" cy="71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.P.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0360" y="4014720"/>
              <a:ext cx="1447920" cy="712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REZIONE REGION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10360" y="5533920"/>
              <a:ext cx="1447920" cy="711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STITU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08080" y="4933800"/>
              <a:ext cx="470160" cy="33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8240" y="2760840"/>
              <a:ext cx="162864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514600" y="4858920"/>
              <a:ext cx="162864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4334040"/>
              <a:ext cx="455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4800" y="3435480"/>
              <a:ext cx="469800" cy="33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852720" y="3322800"/>
              <a:ext cx="1846440" cy="1834920"/>
              <a:chOff x="3852720" y="3322800"/>
              <a:chExt cx="1846440" cy="1834920"/>
            </a:xfrm>
          </p:grpSpPr>
          <p:sp>
            <p:nvSpPr>
              <p:cNvPr id="155" name=""/>
              <p:cNvSpPr/>
              <p:nvPr/>
            </p:nvSpPr>
            <p:spPr>
              <a:xfrm>
                <a:off x="3852720" y="3322800"/>
                <a:ext cx="1846440" cy="18349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61080" y="3772080"/>
                <a:ext cx="1629360" cy="861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GANO COLLEGIALE REGION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754280" y="3247920"/>
              <a:ext cx="5061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790640" y="3772080"/>
              <a:ext cx="434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4280" y="4708440"/>
              <a:ext cx="5061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790640" y="5270400"/>
              <a:ext cx="398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761240" y="3360600"/>
              <a:ext cx="152280" cy="524160"/>
              <a:chOff x="7761240" y="3360600"/>
              <a:chExt cx="152280" cy="524160"/>
            </a:xfrm>
          </p:grpSpPr>
          <p:sp>
            <p:nvSpPr>
              <p:cNvPr id="162" name=""/>
              <p:cNvSpPr/>
              <p:nvPr/>
            </p:nvSpPr>
            <p:spPr>
              <a:xfrm>
                <a:off x="7761240" y="3360600"/>
                <a:ext cx="0" cy="52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13520" y="3360600"/>
                <a:ext cx="0" cy="52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761240" y="4858920"/>
              <a:ext cx="152280" cy="524160"/>
              <a:chOff x="7761240" y="4858920"/>
              <a:chExt cx="152280" cy="5241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240" y="4859280"/>
                <a:ext cx="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913520" y="4858920"/>
                <a:ext cx="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001000" y="62514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IL SISTEMA LOCALE</a:t>
            </a:r>
            <a:br>
              <a:rPr sz="3900"/>
            </a:br>
            <a:r>
              <a:rPr b="1" lang="en-US" sz="24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della formazione e dell’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92200" y="2133720"/>
            <a:ext cx="8721720" cy="4016160"/>
            <a:chOff x="592200" y="2133720"/>
            <a:chExt cx="8721720" cy="4016160"/>
          </a:xfrm>
        </p:grpSpPr>
        <p:sp>
          <p:nvSpPr>
            <p:cNvPr id="170" name=""/>
            <p:cNvSpPr/>
            <p:nvPr/>
          </p:nvSpPr>
          <p:spPr>
            <a:xfrm>
              <a:off x="2148120" y="2169720"/>
              <a:ext cx="2352240" cy="108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COMUN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75760" y="4919760"/>
              <a:ext cx="2352240" cy="112140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PROVINC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1400" y="2169720"/>
              <a:ext cx="2352240" cy="1049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ISTITUT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0240" y="3255120"/>
              <a:ext cx="0" cy="170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00720" y="3255120"/>
              <a:ext cx="1121760" cy="173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392000" y="3218760"/>
              <a:ext cx="1049400" cy="166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6720" y="3689280"/>
              <a:ext cx="904680" cy="8683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71880" y="3219120"/>
              <a:ext cx="0" cy="17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1400" y="4919760"/>
              <a:ext cx="2352240" cy="1121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CS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2200" y="2133720"/>
              <a:ext cx="723600" cy="3907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ahoma"/>
                </a:rPr>
                <a:t>REGION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90320" y="2169720"/>
              <a:ext cx="723600" cy="3871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0720" y="2676240"/>
              <a:ext cx="94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8000" y="5462640"/>
              <a:ext cx="9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315800" y="3182760"/>
              <a:ext cx="83232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5800" y="4051440"/>
              <a:ext cx="72360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94000" y="3219120"/>
              <a:ext cx="75960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757640" y="3979080"/>
              <a:ext cx="79596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200" y="2133720"/>
              <a:ext cx="723600" cy="4016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189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196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676160" y="1981080"/>
            <a:ext cx="7010640" cy="3200400"/>
            <a:chOff x="1676160" y="1981080"/>
            <a:chExt cx="7010640" cy="3200400"/>
          </a:xfrm>
        </p:grpSpPr>
        <p:sp>
          <p:nvSpPr>
            <p:cNvPr id="203" name=""/>
            <p:cNvSpPr/>
            <p:nvPr/>
          </p:nvSpPr>
          <p:spPr>
            <a:xfrm>
              <a:off x="2895480" y="3200400"/>
              <a:ext cx="4572000" cy="7783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UTA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7840" y="411480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7665840" y="307800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5400000">
              <a:off x="1721520" y="307800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72000" y="1981080"/>
              <a:ext cx="974880" cy="1067040"/>
            </a:xfrm>
            <a:prstGeom prst="upArrow">
              <a:avLst>
                <a:gd name="adj1" fmla="val 38630"/>
                <a:gd name="adj2" fmla="val 4283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95360" y="4800600"/>
            <a:ext cx="8915040" cy="1218960"/>
            <a:chOff x="495360" y="4800600"/>
            <a:chExt cx="8915040" cy="1218960"/>
          </a:xfrm>
        </p:grpSpPr>
        <p:sp>
          <p:nvSpPr>
            <p:cNvPr id="209" name=""/>
            <p:cNvSpPr/>
            <p:nvPr/>
          </p:nvSpPr>
          <p:spPr>
            <a:xfrm>
              <a:off x="609480" y="50223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9360" y="56880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360" y="53542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3600" y="55756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6200000">
              <a:off x="591480" y="53546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371600" y="5867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“IL tempo prolungato”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1984  -  Juven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314360" y="533520"/>
          <a:ext cx="7753320" cy="46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4360" y="533520"/>
                    <a:ext cx="77533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219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712520" y="2060640"/>
            <a:ext cx="7010640" cy="3200400"/>
            <a:chOff x="1712520" y="2060640"/>
            <a:chExt cx="7010640" cy="3200400"/>
          </a:xfrm>
        </p:grpSpPr>
        <p:sp>
          <p:nvSpPr>
            <p:cNvPr id="226" name=""/>
            <p:cNvSpPr/>
            <p:nvPr/>
          </p:nvSpPr>
          <p:spPr>
            <a:xfrm>
              <a:off x="2931840" y="3279960"/>
              <a:ext cx="4572000" cy="7783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gani collegial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4200" y="419436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7702200" y="315756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5400000">
              <a:off x="1757880" y="3157560"/>
              <a:ext cx="974880" cy="1066680"/>
            </a:xfrm>
            <a:prstGeom prst="upArrow">
              <a:avLst>
                <a:gd name="adj1" fmla="val 38630"/>
                <a:gd name="adj2" fmla="val 4281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608360" y="2060640"/>
              <a:ext cx="974880" cy="1067040"/>
            </a:xfrm>
            <a:prstGeom prst="upArrow">
              <a:avLst>
                <a:gd name="adj1" fmla="val 38630"/>
                <a:gd name="adj2" fmla="val 42834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dc0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AFFLUENZA ALLE URNE (1975 – 2002)</a:t>
            </a:r>
            <a:br>
              <a:rPr sz="2400"/>
            </a:b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per l’elezione dei consigli di circolo e di 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95360" y="457200"/>
            <a:ext cx="8915040" cy="1218960"/>
            <a:chOff x="495360" y="457200"/>
            <a:chExt cx="8915040" cy="1218960"/>
          </a:xfrm>
        </p:grpSpPr>
        <p:sp>
          <p:nvSpPr>
            <p:cNvPr id="233" name=""/>
            <p:cNvSpPr/>
            <p:nvPr/>
          </p:nvSpPr>
          <p:spPr>
            <a:xfrm>
              <a:off x="609480" y="6789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9360" y="13446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5360" y="10108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600" y="12322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 rot="16200000">
              <a:off x="591480" y="10112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915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915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95360" y="685800"/>
            <a:ext cx="8915040" cy="1218960"/>
            <a:chOff x="495360" y="685800"/>
            <a:chExt cx="8915040" cy="1218960"/>
          </a:xfrm>
        </p:grpSpPr>
        <p:sp>
          <p:nvSpPr>
            <p:cNvPr id="241" name=""/>
            <p:cNvSpPr/>
            <p:nvPr/>
          </p:nvSpPr>
          <p:spPr>
            <a:xfrm>
              <a:off x="609480" y="9075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9360" y="15732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360" y="12394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600" y="14608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16200000">
              <a:off x="591480" y="12398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43040" y="228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AFFLUENZA ALLE URNE (1975 – 2002)</a:t>
            </a:r>
            <a:br>
              <a:rPr sz="2400"/>
            </a:br>
            <a:r>
              <a:rPr b="0" lang="en-US" sz="2400" spc="-1" strike="noStrike">
                <a:solidFill>
                  <a:srgbClr val="dc042d"/>
                </a:solidFill>
                <a:latin typeface="Times New Roman"/>
              </a:rPr>
              <a:t>per l’elezione dei consigli di circolo e di 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731960"/>
          <a:ext cx="845820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31960"/>
                    <a:ext cx="845820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6444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600" spc="-1" strike="noStrike">
                <a:solidFill>
                  <a:srgbClr val="dc042d"/>
                </a:solidFill>
                <a:latin typeface="Times New Roman"/>
              </a:rPr>
              <a:t>ORGANI COLLEGIALI</a:t>
            </a:r>
            <a:br>
              <a:rPr sz="3600"/>
            </a:br>
            <a:r>
              <a:rPr b="1" lang="en-US" sz="2400" spc="-1" strike="noStrike">
                <a:solidFill>
                  <a:srgbClr val="dc042d"/>
                </a:solidFill>
                <a:latin typeface="Times New Roman"/>
              </a:rPr>
              <a:t>(proposta di legge - Luglio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295280"/>
            <a:ext cx="287784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GLIO SUPERIORE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BBLICA 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271600"/>
            <a:ext cx="7188120" cy="42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58960" y="2320920"/>
            <a:ext cx="6535440" cy="658800"/>
            <a:chOff x="858960" y="2320920"/>
            <a:chExt cx="6535440" cy="658800"/>
          </a:xfrm>
        </p:grpSpPr>
        <p:sp>
          <p:nvSpPr>
            <p:cNvPr id="254" name=""/>
            <p:cNvSpPr/>
            <p:nvPr/>
          </p:nvSpPr>
          <p:spPr>
            <a:xfrm>
              <a:off x="858960" y="2320920"/>
              <a:ext cx="13572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S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14480" y="2320920"/>
              <a:ext cx="170928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itato di Valutazione del servi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85120" y="2320920"/>
              <a:ext cx="170928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siglio di garanz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35440" y="2320920"/>
              <a:ext cx="170928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ucleo di valut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7280" y="3271680"/>
            <a:ext cx="1911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. 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284640"/>
            <a:ext cx="2287440" cy="601560"/>
          </a:xfrm>
          <a:prstGeom prst="rect">
            <a:avLst/>
          </a:prstGeom>
          <a:solidFill>
            <a:srgbClr val="dc0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ONSIGL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di Amminist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7760" y="3271680"/>
            <a:ext cx="1911240" cy="636840"/>
          </a:xfrm>
          <a:prstGeom prst="rect">
            <a:avLst/>
          </a:prstGeom>
          <a:solidFill>
            <a:srgbClr val="dc042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OLLEGIO DEI DOC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8040" y="4029120"/>
            <a:ext cx="182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. Sinda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63800" y="4175280"/>
            <a:ext cx="19112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olazio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colleg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35600" y="4175280"/>
            <a:ext cx="17096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ea di istituto degli stud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36960" y="4175280"/>
            <a:ext cx="20494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a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 dei geni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5348160"/>
            <a:ext cx="1911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rgano rappresen. delle artico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5257800"/>
            <a:ext cx="17100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a di istituto degli stud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5480" y="4981680"/>
            <a:ext cx="2049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a di istituto dei geni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5800" y="5934240"/>
            <a:ext cx="17096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itato degli stud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84720" y="5934240"/>
            <a:ext cx="2049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itato dei geni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29200" y="2859120"/>
            <a:ext cx="2009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glio di discip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370160"/>
            <a:ext cx="10083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iglio scolastico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1539720"/>
            <a:ext cx="1192320" cy="6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iglio scola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600200"/>
            <a:ext cx="2133720" cy="51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llegiale degli enti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3492360"/>
            <a:ext cx="1143000" cy="6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ulta degli stu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05920" y="4541760"/>
            <a:ext cx="11430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siglio di garanzia provin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219320" y="259056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262160" y="359064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63560" y="2664000"/>
            <a:ext cx="1257480" cy="53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819520"/>
            <a:ext cx="1440" cy="39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73400" y="320040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20560" y="285912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730400" y="3102120"/>
            <a:ext cx="1004760" cy="9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589800" y="262584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971800" y="3957120"/>
            <a:ext cx="144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33480" y="395280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573960" y="3900600"/>
            <a:ext cx="1365120" cy="36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9800" y="3951360"/>
            <a:ext cx="144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523880" y="3687480"/>
            <a:ext cx="7938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765440" y="4757400"/>
            <a:ext cx="8524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328640" y="5591160"/>
            <a:ext cx="1800" cy="390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81560" y="4713120"/>
            <a:ext cx="144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551640" y="5029200"/>
            <a:ext cx="144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389280" y="576108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8745120" y="420012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51400" y="356544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95360" y="380880"/>
            <a:ext cx="8915040" cy="1218960"/>
            <a:chOff x="495360" y="380880"/>
            <a:chExt cx="8915040" cy="1218960"/>
          </a:xfrm>
        </p:grpSpPr>
        <p:sp>
          <p:nvSpPr>
            <p:cNvPr id="297" name=""/>
            <p:cNvSpPr/>
            <p:nvPr/>
          </p:nvSpPr>
          <p:spPr>
            <a:xfrm>
              <a:off x="609480" y="60264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9360" y="12682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360" y="93456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600" y="115596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16200000">
              <a:off x="591480" y="93492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304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20880" y="34290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0520" y="3357720"/>
            <a:ext cx="1368360" cy="1008000"/>
          </a:xfrm>
          <a:prstGeom prst="rightArrow">
            <a:avLst>
              <a:gd name="adj1" fmla="val 50000"/>
              <a:gd name="adj2" fmla="val 339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7760880" y="3284640"/>
            <a:ext cx="1368360" cy="1008000"/>
          </a:xfrm>
          <a:prstGeom prst="rightArrow">
            <a:avLst>
              <a:gd name="adj1" fmla="val 53704"/>
              <a:gd name="adj2" fmla="val 31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3836160" y="5265000"/>
            <a:ext cx="1368720" cy="1008000"/>
          </a:xfrm>
          <a:prstGeom prst="rightArrow">
            <a:avLst>
              <a:gd name="adj1" fmla="val 50000"/>
              <a:gd name="adj2" fmla="val 339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3943440" y="1773720"/>
            <a:ext cx="1368720" cy="1008360"/>
          </a:xfrm>
          <a:prstGeom prst="rightArrow">
            <a:avLst>
              <a:gd name="adj1" fmla="val 50000"/>
              <a:gd name="adj2" fmla="val 339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44880" y="3141720"/>
            <a:ext cx="5256000" cy="1873080"/>
          </a:xfrm>
          <a:prstGeom prst="rect">
            <a:avLst/>
          </a:prstGeom>
          <a:gradFill rotWithShape="0">
            <a:gsLst>
              <a:gs pos="0">
                <a:srgbClr val="917b53"/>
              </a:gs>
              <a:gs pos="50000">
                <a:srgbClr val="ffff00"/>
              </a:gs>
              <a:gs pos="100000">
                <a:srgbClr val="917b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44880" y="3141720"/>
            <a:ext cx="5184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scuola e professionalità doc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560520" y="692280"/>
            <a:ext cx="8915040" cy="1260000"/>
            <a:chOff x="560520" y="692280"/>
            <a:chExt cx="8915040" cy="1260000"/>
          </a:xfrm>
        </p:grpSpPr>
        <p:sp>
          <p:nvSpPr>
            <p:cNvPr id="318" name=""/>
            <p:cNvSpPr/>
            <p:nvPr/>
          </p:nvSpPr>
          <p:spPr>
            <a:xfrm>
              <a:off x="674640" y="92160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4520" y="160956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0520" y="12646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8760" y="149328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6200000">
              <a:off x="636840" y="126612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20880" y="34290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6520" y="2133720"/>
            <a:ext cx="777744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E della SCUOL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ORGANIZZ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60880" y="2997360"/>
            <a:ext cx="574560" cy="1728720"/>
          </a:xfrm>
          <a:prstGeom prst="upDownArrow">
            <a:avLst>
              <a:gd name="adj1" fmla="val 50000"/>
              <a:gd name="adj2" fmla="val 5989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56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380880"/>
            <a:ext cx="79246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INTEGR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verticale e orizz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90920"/>
            <a:ext cx="67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i ’70: integrazione partecip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78487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g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876920"/>
            <a:ext cx="82296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zione nor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35560" y="4038480"/>
            <a:ext cx="1035000" cy="603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042d"/>
          </a:solidFill>
          <a:ln w="9360">
            <a:solidFill>
              <a:srgbClr val="dc0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631800" y="333360"/>
            <a:ext cx="8915040" cy="1260000"/>
            <a:chOff x="631800" y="333360"/>
            <a:chExt cx="8915040" cy="1260000"/>
          </a:xfrm>
        </p:grpSpPr>
        <p:sp>
          <p:nvSpPr>
            <p:cNvPr id="328" name=""/>
            <p:cNvSpPr/>
            <p:nvPr/>
          </p:nvSpPr>
          <p:spPr>
            <a:xfrm>
              <a:off x="745920" y="56268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5800" y="125064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1800" y="90576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0040" y="113436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708120" y="90720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920880" y="342900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4160" y="1268280"/>
            <a:ext cx="7777080" cy="78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e cultura professional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e sistema organizzativo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e forma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3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495360" y="685800"/>
            <a:ext cx="8915040" cy="1260000"/>
            <a:chOff x="495360" y="685800"/>
            <a:chExt cx="8915040" cy="1260000"/>
          </a:xfrm>
        </p:grpSpPr>
        <p:sp>
          <p:nvSpPr>
            <p:cNvPr id="68" name=""/>
            <p:cNvSpPr/>
            <p:nvPr/>
          </p:nvSpPr>
          <p:spPr>
            <a:xfrm>
              <a:off x="609480" y="9151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9360" y="16030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60" y="12582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600" y="14868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6200000">
              <a:off x="571680" y="12596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895480" y="2833560"/>
            <a:ext cx="46483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AUTONOM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886200"/>
            <a:ext cx="4343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21 Legge Bassanini 59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95360" y="609120"/>
            <a:ext cx="8915040" cy="1261080"/>
            <a:chOff x="495360" y="609120"/>
            <a:chExt cx="8915040" cy="1261080"/>
          </a:xfrm>
        </p:grpSpPr>
        <p:sp>
          <p:nvSpPr>
            <p:cNvPr id="77" name=""/>
            <p:cNvSpPr/>
            <p:nvPr/>
          </p:nvSpPr>
          <p:spPr>
            <a:xfrm>
              <a:off x="609480" y="838800"/>
              <a:ext cx="685800" cy="343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9360" y="152712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360" y="118188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600" y="141084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571680" y="1182960"/>
              <a:ext cx="122004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71680" y="415908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icolo 114 riform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ubblica è costituita dai Comuni, dalle Province, dalle Città metropolitane, dalle Regioni e dallo Stat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609480"/>
            <a:ext cx="88707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042d"/>
                </a:solidFill>
                <a:latin typeface="Times New Roman"/>
              </a:rPr>
              <a:t>Costituzione Titolo 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009880"/>
            <a:ext cx="7391160" cy="30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icolo 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ubblica si riparte in Regioni, Province e Comun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4419720"/>
            <a:ext cx="583920" cy="380880"/>
          </a:xfrm>
          <a:prstGeom prst="rightArrow">
            <a:avLst>
              <a:gd name="adj1" fmla="val 50000"/>
              <a:gd name="adj2" fmla="val 5545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934320" y="4419720"/>
            <a:ext cx="583920" cy="380880"/>
          </a:xfrm>
          <a:prstGeom prst="rightArrow">
            <a:avLst>
              <a:gd name="adj1" fmla="val 50000"/>
              <a:gd name="adj2" fmla="val 5545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a riforma del Titolo V della</a:t>
            </a:r>
            <a:br>
              <a:rPr sz="3900"/>
            </a:b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Costituzio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2819160"/>
            <a:ext cx="8420040" cy="327636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gislazione es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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zione dei livelli essenziali delle prestazioni concernenti i diritti civili e sociali che devono essere garantiti su tutto il territorio naz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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e generali sull’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360" y="1143000"/>
            <a:ext cx="8915040" cy="1260000"/>
            <a:chOff x="495360" y="1143000"/>
            <a:chExt cx="8915040" cy="1260000"/>
          </a:xfrm>
        </p:grpSpPr>
        <p:sp>
          <p:nvSpPr>
            <p:cNvPr id="91" name=""/>
            <p:cNvSpPr/>
            <p:nvPr/>
          </p:nvSpPr>
          <p:spPr>
            <a:xfrm>
              <a:off x="609480" y="137232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9360" y="206028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360" y="17154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600" y="194400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200000">
              <a:off x="571680" y="171684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a riforma del Titolo V della</a:t>
            </a:r>
            <a:br>
              <a:rPr sz="3900"/>
            </a:br>
            <a:r>
              <a:rPr b="0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Costituzio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 fontScale="99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gislazione es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uzione artigiana e profess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nza scola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gislazione concorrente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zion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va l’autonomia delle istituzion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scolastic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con esclusione della istruzion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zione profes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potestà legislativa salvo la determinazione dei principi   fondamentali, riservata alla legisl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o st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360" y="990720"/>
            <a:ext cx="8915040" cy="1260000"/>
            <a:chOff x="495360" y="990720"/>
            <a:chExt cx="8915040" cy="1260000"/>
          </a:xfrm>
        </p:grpSpPr>
        <p:sp>
          <p:nvSpPr>
            <p:cNvPr id="100" name=""/>
            <p:cNvSpPr/>
            <p:nvPr/>
          </p:nvSpPr>
          <p:spPr>
            <a:xfrm>
              <a:off x="609480" y="122004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360" y="19080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360" y="156312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600" y="179172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571680" y="156456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4680" y="609912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95360" y="533520"/>
            <a:ext cx="8915040" cy="1260000"/>
            <a:chOff x="495360" y="533520"/>
            <a:chExt cx="8915040" cy="1260000"/>
          </a:xfrm>
        </p:grpSpPr>
        <p:sp>
          <p:nvSpPr>
            <p:cNvPr id="107" name=""/>
            <p:cNvSpPr/>
            <p:nvPr/>
          </p:nvSpPr>
          <p:spPr>
            <a:xfrm>
              <a:off x="609480" y="762840"/>
              <a:ext cx="685800" cy="342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360" y="145080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360" y="1105920"/>
              <a:ext cx="685440" cy="342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600" y="133452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6200000">
              <a:off x="571680" y="1107360"/>
              <a:ext cx="12196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04480" y="30492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egge 112/98</a:t>
            </a:r>
            <a:br>
              <a:rPr sz="3900"/>
            </a:br>
            <a:r>
              <a:rPr b="0" lang="en-US" sz="24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Trasferimento competenze e funzioni alle Province e ai Comu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371600"/>
            <a:ext cx="830592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ticolo 1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dc042d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truzione, aggregazione, fusione e soppressione di scuole in attuazione degli strumenti di programmazi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dc042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redazione dei piani di organizzazione della rete delle istituzioni scolasti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servizi di supporto organizzativo per gli alunni con handicap  o in situazioni di svantagg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piano di utilizzazione degli edifici  e di uso delle attrezzature, d’intesa con le istituzioni scolastich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 sospensione delle lezioni in casi gravi  e urgen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)  iniziative e attività di promozione relative all’ambito delle funzioni conferi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42d"/>
                </a:solidFill>
                <a:latin typeface="Wingdings 2"/>
                <a:ea typeface="Wingdings 2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costituzione, controllo e vigilanza, ivi compreso lo scioglimento, sugli organi     collegiali scolastici a livello territori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9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Legge 112/98</a:t>
            </a:r>
            <a:br>
              <a:rPr sz="3900"/>
            </a:br>
            <a:r>
              <a:rPr b="0" lang="en-US" sz="3200" spc="-1" strike="noStrike">
                <a:solidFill>
                  <a:srgbClr val="dc042d"/>
                </a:solidFill>
                <a:latin typeface="Times New Roman"/>
                <a:ea typeface="Times New Roman"/>
              </a:rPr>
              <a:t>Trasferimento competenze e funzioni ai Comun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95360" y="609120"/>
            <a:ext cx="8915040" cy="1261080"/>
            <a:chOff x="495360" y="609120"/>
            <a:chExt cx="8915040" cy="1261080"/>
          </a:xfrm>
        </p:grpSpPr>
        <p:sp>
          <p:nvSpPr>
            <p:cNvPr id="117" name=""/>
            <p:cNvSpPr/>
            <p:nvPr/>
          </p:nvSpPr>
          <p:spPr>
            <a:xfrm>
              <a:off x="609480" y="838800"/>
              <a:ext cx="685800" cy="343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360" y="152712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360" y="1181880"/>
              <a:ext cx="685440" cy="34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600" y="1410840"/>
              <a:ext cx="868680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16200000">
              <a:off x="571680" y="1182960"/>
              <a:ext cx="122004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39  (punto 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in collaborazione con le comunità montane e con le Province, ciascuno in relazione ai gradi di istruzione di propria competenza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tan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d’intesa con le istit. scolastiche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ative relativ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educazione degli adul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 interventi integrati di orientamento scolastico e profession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  azioni tese a realizzare le pari opportunità di istruz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  azioni di supporto tese a promuovere e sostenere la coerenza e la continuità i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ticale e in orizzontale tra i diversi gradi e ordini di scuo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  interventi perequati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  interventi integrati di prevenzione della dispersione scolastica e di educ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salut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85"/>
            </a:gs>
            <a:gs pos="50000">
              <a:srgbClr val="ffff99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dc042d"/>
                </a:solidFill>
                <a:latin typeface="Times New Roman"/>
              </a:rPr>
              <a:t>LA SCUOLA DELL’ AUTONOMIA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562880" cy="281916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responsabile del servizio fornito all’u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un servizio aperto capace di interagire con il contesto sociale e territo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5360" y="914400"/>
            <a:ext cx="8915040" cy="1218960"/>
            <a:chOff x="495360" y="914400"/>
            <a:chExt cx="8915040" cy="1218960"/>
          </a:xfrm>
        </p:grpSpPr>
        <p:sp>
          <p:nvSpPr>
            <p:cNvPr id="127" name=""/>
            <p:cNvSpPr/>
            <p:nvPr/>
          </p:nvSpPr>
          <p:spPr>
            <a:xfrm>
              <a:off x="609480" y="1136160"/>
              <a:ext cx="685800" cy="331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360" y="180180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360" y="1468080"/>
              <a:ext cx="685440" cy="33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600" y="1689480"/>
              <a:ext cx="8686800" cy="6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6200000">
              <a:off x="591480" y="1468440"/>
              <a:ext cx="1180080" cy="71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4749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8:38:19Z</dcterms:created>
  <dc:creator> </dc:creator>
  <dc:description/>
  <dc:language>en-US</dc:language>
  <cp:lastModifiedBy>Berti</cp:lastModifiedBy>
  <dcterms:modified xsi:type="dcterms:W3CDTF">2004-01-12T21:29:43Z</dcterms:modified>
  <cp:revision>37</cp:revision>
  <dc:subject/>
  <dc:title>Presentazione di PowerPoint</dc:title>
</cp:coreProperties>
</file>