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FE0-6725-40E8-AFE7-037E3A69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C23-19F6-400C-996A-86A4CF1B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4FE-D287-47AA-A82B-5856F8E2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326-15D1-4192-9AE9-739EC82C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786-B881-48B3-9CE4-E2AC6B98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A1E-83A1-4B85-83B0-2FE11F35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897-6EB7-4414-A832-AC085F9B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33A-556F-4653-8EB1-8884C8D5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B4D-D163-4488-A70C-1A29EDE9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4B1-D19D-4974-A8D5-7CFC32CF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646-8D80-4CE8-8907-8CC5DA62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713-5A3B-4740-92E2-6EBF3328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5EC1-B844-4D62-AB02-DA7387DC3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5b5b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773360"/>
            <a:ext cx="676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Black"/>
              </a:rPr>
              <a:t>Cultura professionale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2997360"/>
            <a:ext cx="52563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Black"/>
              </a:rPr>
              <a:t>ed Organizzativa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43640" y="5734080"/>
            <a:ext cx="16956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619280" y="1628640"/>
            <a:ext cx="54388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69696"/>
                </a:solidFill>
                <a:effectLst>
                  <a:outerShdw dist="153753" dir="2700000" blurRad="0" rotWithShape="0">
                    <a:srgbClr val="595959"/>
                  </a:outerShdw>
                </a:effectLst>
                <a:latin typeface="Arial Black"/>
              </a:rPr>
              <a:t>Quali indicatori per</a:t>
            </a:r>
            <a:endParaRPr b="0" lang="en-US" sz="1800" spc="1" strike="noStrike">
              <a:ln w="0">
                <a:noFill/>
              </a:ln>
              <a:solidFill>
                <a:srgbClr val="969696"/>
              </a:solidFill>
              <a:effectLst>
                <a:outerShdw dist="153753" dir="2700000" blurRad="0" rotWithShape="0">
                  <a:srgbClr val="59595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3141720"/>
            <a:ext cx="6981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69696"/>
                </a:solidFill>
                <a:effectLst>
                  <a:outerShdw dist="153753" dir="2700000" blurRad="0" rotWithShape="0">
                    <a:srgbClr val="595959"/>
                  </a:outerShdw>
                </a:effectLst>
                <a:latin typeface="Arial Black"/>
              </a:rPr>
              <a:t>analizzare il cambiamento ?</a:t>
            </a:r>
            <a:endParaRPr b="0" lang="en-US" sz="1800" spc="1" strike="noStrike">
              <a:ln w="0">
                <a:noFill/>
              </a:ln>
              <a:solidFill>
                <a:srgbClr val="969696"/>
              </a:solidFill>
              <a:effectLst>
                <a:outerShdw dist="153753" dir="2700000" blurRad="0" rotWithShape="0">
                  <a:srgbClr val="59595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659640" y="5661000"/>
            <a:ext cx="1695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419640" y="836640"/>
            <a:ext cx="1827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siste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84720" y="3429000"/>
            <a:ext cx="23990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autonom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3284640"/>
            <a:ext cx="25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organizzaz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4859280" y="1341360"/>
            <a:ext cx="20178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88000" y="1989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Si caratterizza per </a:t>
            </a:r>
            <a:r>
              <a:rPr b="0" i="1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varia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332000" y="40053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5280" y="4076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costruisce una prop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332000" y="1413000"/>
            <a:ext cx="25192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 base alle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norm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 dota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659640" y="566100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084720" y="4149720"/>
            <a:ext cx="2737080" cy="15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8000" y="44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88000" y="479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oper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95280" y="2708280"/>
            <a:ext cx="23986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autonom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21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 caratterizza per livelli divers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59280" y="29242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92720" y="2708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mologazione / ident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4365720"/>
            <a:ext cx="19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8000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19640" y="40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sponsa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20720" y="44370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lessi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60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59640" y="1844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5964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459640" y="907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 rot="5400000">
            <a:off x="8024760" y="3286080"/>
            <a:ext cx="1441440" cy="285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s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40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sterno/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877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/sistema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1619280" y="33336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50920" y="1773360"/>
            <a:ext cx="23986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utonom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2060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1484280"/>
            <a:ext cx="417492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Progettare_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pianificare_programm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GANIZ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estire  </a:t>
            </a: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risorse</a:t>
            </a:r>
            <a:r>
              <a:rPr b="0" lang="it-IT" sz="1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persone–fondi</a:t>
            </a:r>
            <a:r>
              <a:rPr b="0" lang="it-IT" sz="1800" spc="-1" strike="noStrike">
                <a:solidFill>
                  <a:srgbClr val="cc3300"/>
                </a:solidFill>
                <a:latin typeface="Arial"/>
              </a:rPr>
              <a:t>–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tempo</a:t>
            </a: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               materiali (archivio)    </a:t>
            </a: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ificare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260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59640" y="1844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5964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459640" y="907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 rot="5400000">
            <a:off x="8024760" y="3286080"/>
            <a:ext cx="1441440" cy="285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s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40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sterno/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00720" y="5877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/sistema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04000" y="32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3573360"/>
            <a:ext cx="273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Controllo_monitorag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Valutare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00720" y="4221000"/>
            <a:ext cx="244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Arial"/>
              </a:rPr>
              <a:t>Certificazione_qua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154764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87640" y="17002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26028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459640" y="1844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45964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459640" y="907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 rot="5400000">
            <a:off x="8024760" y="3286080"/>
            <a:ext cx="1441440" cy="285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s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40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sterno/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5877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/sistema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092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2781360"/>
            <a:ext cx="32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5b5b5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organizzaz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5b5b5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"/>
          <p:cNvSpPr/>
          <p:nvPr/>
        </p:nvSpPr>
        <p:spPr>
          <a:xfrm>
            <a:off x="781200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1557360"/>
            <a:ext cx="0" cy="1150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5280" y="1052640"/>
            <a:ext cx="1440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791e00"/>
                  </a:outerShdw>
                </a:effectLst>
                <a:latin typeface="Arial Black"/>
              </a:rPr>
              <a:t>modelli</a:t>
            </a:r>
            <a:endParaRPr b="0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153753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32360" y="2997360"/>
            <a:ext cx="1657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791e00"/>
                  </a:outerShdw>
                </a:effectLst>
                <a:latin typeface="Arial Black"/>
              </a:rPr>
              <a:t>funzioni</a:t>
            </a:r>
            <a:endParaRPr b="0" lang="en-US" sz="2000" spc="1" strike="noStrike">
              <a:ln w="0">
                <a:noFill/>
              </a:ln>
              <a:solidFill>
                <a:srgbClr val="cc3300"/>
              </a:solidFill>
              <a:effectLst>
                <a:outerShdw dist="153753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716360" y="3860640"/>
            <a:ext cx="2089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791e00"/>
                  </a:outerShdw>
                </a:effectLst>
                <a:latin typeface="Arial Black"/>
              </a:rPr>
              <a:t>competenze</a:t>
            </a:r>
            <a:endParaRPr b="0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153753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16360" y="4797360"/>
            <a:ext cx="20890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791e00"/>
                  </a:outerShdw>
                </a:effectLst>
                <a:latin typeface="Arial Black"/>
              </a:rPr>
              <a:t>formazione</a:t>
            </a:r>
            <a:endParaRPr b="0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153753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565164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1916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ttu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356000" y="1197000"/>
            <a:ext cx="144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791e00"/>
                  </a:outerShdw>
                </a:effectLst>
                <a:latin typeface="Arial Black"/>
              </a:rPr>
              <a:t>strutture</a:t>
            </a:r>
            <a:endParaRPr b="0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153753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191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articola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708360" y="1915920"/>
            <a:ext cx="1511280" cy="93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200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1268280"/>
            <a:ext cx="158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izzon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ticali: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I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08720" y="19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08720" y="2205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80000" y="350028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hied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80000" y="43657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otte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 flipV="1">
            <a:off x="8459640" y="907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59640" y="1844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948360" y="1557360"/>
            <a:ext cx="1727280" cy="1008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1484280"/>
            <a:ext cx="3745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26028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45964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 rot="5400000">
            <a:off x="8024760" y="3286080"/>
            <a:ext cx="1441440" cy="285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s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0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sterno/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00720" y="5877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/sistema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092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79280" y="1844640"/>
            <a:ext cx="14954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5b5b5"/>
                </a:solidFill>
                <a:latin typeface="Arial Black"/>
              </a:rPr>
              <a:t>organizzazion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b5b5b5"/>
              </a:solidFill>
              <a:latin typeface="Arial Black"/>
              <a:ea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5292720" y="17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0360" y="1413000"/>
            <a:ext cx="1656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r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m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usili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093080" y="1844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9308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08720" y="17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g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08720" y="2060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n Inseg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410920" y="1916280"/>
            <a:ext cx="27370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924360" y="1916280"/>
            <a:ext cx="122400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3500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rgan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393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6000" y="386064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40000" y="4005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4508640"/>
            <a:ext cx="3816360" cy="122544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4581360"/>
            <a:ext cx="3671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dividualità/collegial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rtecipazione,condivisione/gerarc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cisionalità/corresponsabil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41300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052640"/>
            <a:ext cx="723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modelli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03640" y="1413000"/>
            <a:ext cx="196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34955" dir="19127120" blurRad="0" rotWithShape="0">
                    <a:srgbClr val="b5b5b5"/>
                  </a:outerShdw>
                </a:effectLst>
                <a:latin typeface="Arial Black"/>
              </a:rPr>
              <a:t>funzion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34955" dir="19127120" blurRad="0" rotWithShape="0">
                  <a:srgbClr val="b5b5b5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4427640" y="335772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48000" y="2565360"/>
            <a:ext cx="1727280" cy="368280"/>
          </a:xfrm>
          <a:prstGeom prst="rect">
            <a:avLst/>
          </a:prstGeom>
          <a:solidFill>
            <a:srgbClr val="b5b5b5"/>
          </a:solidFill>
          <a:ln w="0">
            <a:noFill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sc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4360" y="620640"/>
            <a:ext cx="7704000" cy="5761080"/>
          </a:xfrm>
          <a:prstGeom prst="ellipse">
            <a:avLst/>
          </a:prstGeom>
          <a:solidFill>
            <a:srgbClr val="b5b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1695240" cy="6001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932360" y="2997360"/>
            <a:ext cx="1657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funzion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780000" y="1989000"/>
            <a:ext cx="30495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ultura organizzati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716360" y="3860640"/>
            <a:ext cx="2089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mpetenz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908000" y="2924280"/>
            <a:ext cx="1440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modell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24040" y="3108240"/>
            <a:ext cx="749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dentità/cultura  profession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627280" y="4724280"/>
            <a:ext cx="3876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bdf53"/>
                </a:solidFill>
                <a:latin typeface="Arial Black"/>
              </a:rPr>
              <a:t>riconoscim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bdf53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58920" y="393372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forma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8" dur="1" fill="hold"/>
                                  <p:tgtEl>
                                    <p:spTgt spid="3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5b5b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00000" y="69228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Black"/>
              </a:rPr>
              <a:t>Premessa: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19280" y="1989000"/>
            <a:ext cx="6121440" cy="12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Unicode MS"/>
              </a:rPr>
              <a:t>La scuola è un'Istituzione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Unicode MS"/>
              </a:rPr>
              <a:t>finalizzata alla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Unicode MS"/>
              </a:rPr>
              <a:t>formazione del  cittadino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422100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Unicode MS"/>
              </a:rPr>
              <a:t>La scuola è un sistema formativo 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3c00"/>
                  </a:outerShdw>
                </a:effectLst>
                <a:latin typeface="Arial Unicode MS"/>
              </a:rPr>
              <a:t>in rete con altri sistemi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83c00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1695600" cy="600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96360" y="530064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3794"/>
                </a:moveTo>
                <a:lnTo>
                  <a:pt x="21356" y="10800"/>
                </a:lnTo>
                <a:lnTo>
                  <a:pt x="7343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99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perme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234936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organizz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71628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371628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414972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414972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4221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3284640"/>
            <a:ext cx="288720" cy="21564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465300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342900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3860640"/>
            <a:ext cx="216000" cy="28764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3500280"/>
            <a:ext cx="0" cy="64944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50920" y="4292640"/>
            <a:ext cx="289080" cy="36036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571640" y="4292640"/>
            <a:ext cx="289080" cy="36036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3860640"/>
            <a:ext cx="216000" cy="28764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284720" y="3789360"/>
            <a:ext cx="288720" cy="36036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bdf53">
              <a:alpha val="50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43640" y="5734080"/>
            <a:ext cx="1695600" cy="6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99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perme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43280" y="234936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organizz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371628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371628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414972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414972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4221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284640"/>
            <a:ext cx="288720" cy="21564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4653000"/>
            <a:ext cx="28872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4653000"/>
            <a:ext cx="289080" cy="216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42900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3860640"/>
            <a:ext cx="14472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86064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8472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92436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7200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bdf53">
              <a:alpha val="50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3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443640" y="5734080"/>
            <a:ext cx="1695600" cy="6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92360" y="1916280"/>
            <a:ext cx="5256000" cy="352872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99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11640" y="1341360"/>
            <a:ext cx="216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permeabile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organ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43280" y="2349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compl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350028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56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stanze sociali e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1989000"/>
            <a:ext cx="1440000" cy="433440"/>
          </a:xfrm>
          <a:prstGeom prst="rightArrow">
            <a:avLst>
              <a:gd name="adj1" fmla="val 50000"/>
              <a:gd name="adj2" fmla="val 8305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79736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0364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851280" y="3429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2900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3860640"/>
            <a:ext cx="14472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86064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436572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284720" y="39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92436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72000" y="4365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bdf53">
              <a:alpha val="50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33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443640" y="5734080"/>
            <a:ext cx="1695600" cy="6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92360" y="2492280"/>
            <a:ext cx="4103640" cy="295272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99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00720" y="1916280"/>
            <a:ext cx="21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Il Sistema: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non isolato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permeabile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organizzato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compl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453440" y="6093000"/>
            <a:ext cx="1690560" cy="596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657440" cy="838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71640" y="386064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33577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mic Sans MS"/>
              </a:rPr>
              <a:t>Istanze sociali e cul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492280"/>
            <a:ext cx="863640" cy="217440"/>
          </a:xfrm>
          <a:prstGeom prst="rightArrow">
            <a:avLst>
              <a:gd name="adj1" fmla="val 50000"/>
              <a:gd name="adj2" fmla="val 9929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220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494172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437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89000"/>
            <a:ext cx="1800000" cy="647640"/>
          </a:xfrm>
          <a:prstGeom prst="cloudCallout">
            <a:avLst>
              <a:gd name="adj1" fmla="val -49027"/>
              <a:gd name="adj2" fmla="val 59069"/>
            </a:avLst>
          </a:prstGeom>
          <a:solidFill>
            <a:srgbClr val="fbdf53">
              <a:alpha val="50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Comic Sans MS"/>
              </a:rPr>
              <a:t>Il 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371628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ttad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51640" y="4076640"/>
            <a:ext cx="0" cy="201636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68360" y="6093000"/>
            <a:ext cx="6912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68360" y="4076280"/>
            <a:ext cx="0" cy="201636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4076640"/>
            <a:ext cx="50328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8360" y="2636640"/>
            <a:ext cx="0" cy="143964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637000"/>
            <a:ext cx="129528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5157720"/>
            <a:ext cx="1008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3645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Comic Sans MS"/>
              </a:rPr>
              <a:t>Regol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25200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Sistema scolast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1844640"/>
            <a:ext cx="756108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9966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non isolato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- permeabile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- organizz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ompl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479736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Varia nel te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25200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7342200" cy="93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Sistema scolastico che varia nel t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93080" y="6021360"/>
            <a:ext cx="1431720" cy="506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95280" y="2276640"/>
            <a:ext cx="8748720" cy="352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permeabile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:           aperto/chiuso dipendenza/autoreferenzialità</a:t>
            </a:r>
            <a:br>
              <a:rPr sz="3200"/>
            </a:b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-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organizzato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:             flessibile/rigido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autonomia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/dipend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                                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GEST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35280" y="2637000"/>
            <a:ext cx="57636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92640"/>
            <a:ext cx="57636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5280" y="5445000"/>
            <a:ext cx="57636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5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5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250"/>
                            </p:stCondLst>
                            <p:childTnLst>
                              <p:par>
                                <p:cTn id="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25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75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250"/>
                            </p:stCondLst>
                            <p:childTnLst>
                              <p:par>
                                <p:cTn id="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252000"/>
            <a:ext cx="687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Sistema scolastico che varia nel t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1432080" cy="506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79280" y="2349360"/>
            <a:ext cx="8748720" cy="39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Complesso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                     relazioni             democratico/gerarchico, autocentrico/eterocen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Regolato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                        fl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Auto/eterorego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                       </a:t>
            </a: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Conformità/non conform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Comic Sans MS"/>
              </a:rPr>
              <a:t>                        </a:t>
            </a:r>
            <a:r>
              <a:rPr b="0" lang="it-IT" sz="3200" spc="-1" strike="noStrike" u="sng">
                <a:solidFill>
                  <a:srgbClr val="cc3300"/>
                </a:solidFill>
                <a:uFillTx/>
                <a:latin typeface="Comic Sans MS"/>
              </a:rPr>
              <a:t>Gestion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5280" y="2708280"/>
            <a:ext cx="57636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4724280"/>
            <a:ext cx="5760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2800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21:13:36Z</dcterms:created>
  <dc:creator>MARCELLA</dc:creator>
  <dc:description/>
  <dc:language>en-US</dc:language>
  <cp:lastModifiedBy>MARCELLA</cp:lastModifiedBy>
  <dcterms:modified xsi:type="dcterms:W3CDTF">2003-12-09T00:13:55Z</dcterms:modified>
  <cp:revision>7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6017986</vt:r8>
  </property>
  <property fmtid="{D5CDD505-2E9C-101B-9397-08002B2CF9AE}" pid="3" name="_AuthorEmail">
    <vt:lpwstr>m.jacono@virgilio.it</vt:lpwstr>
  </property>
  <property fmtid="{D5CDD505-2E9C-101B-9397-08002B2CF9AE}" pid="4" name="_AuthorEmailDisplayName">
    <vt:lpwstr>marcella</vt:lpwstr>
  </property>
  <property fmtid="{D5CDD505-2E9C-101B-9397-08002B2CF9AE}" pid="5" name="_EmailSubject">
    <vt:lpwstr>mappa </vt:lpwstr>
  </property>
</Properties>
</file>