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7DE-F769-4DD6-8ED2-4BCEE797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6DE-4E0C-4401-B5F6-5838719E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09C-60B5-4501-8D28-D803CAD2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D59-E1B3-4F42-AF85-4E66420F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A349-A5A2-43E4-86A8-F74AD2B7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4629-CB07-4140-82AE-19CBD107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C4D4-AB05-440E-9C50-0256CE93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6C0C-B69F-4FC5-A70E-9C32678D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0B6E-2272-4F89-9C49-2EF9B8F8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EC70-68B1-43B6-AC78-921BE9C9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EFE5-9193-4E12-A544-0B0C3E8F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AC9-28C7-4BD9-8493-E58EF08A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996F-0619-49DC-B7B1-9AC91C59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39DC-1CCD-4C51-A403-B63A4B47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718E-B0EC-43F8-9CF9-267F82B7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C46F-455D-49E5-B317-2377D75D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5CF9-9BBE-4D93-B515-BAA4025F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970-FD51-4F01-AE5E-F12E1F20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305-9738-499E-8E4B-162C66B9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6CA4-3B2B-4E80-B5B8-8A598E27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A94-E009-4E4D-9975-346388F2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2EF-AB40-4D90-A755-6E9B362B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42A-3069-4AE8-8F5A-DC00CC0C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8D7-F138-4E33-827E-AB6B6D58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0118-AFD1-4D73-B454-B25EE0F8677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60F1-D1F5-442A-AA38-E1A9D4034B9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2565000"/>
            <a:ext cx="799308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Le parole chiave del cambiamento; i nodi della rete formativa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8360" y="5589720"/>
            <a:ext cx="2808360" cy="992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724360" y="11592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rgamo, 1 Ottobre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11280" y="260280"/>
            <a:ext cx="3600360" cy="1368360"/>
          </a:xfrm>
          <a:prstGeom prst="cloudCallout">
            <a:avLst>
              <a:gd name="adj1" fmla="val -37259"/>
              <a:gd name="adj2" fmla="val 67287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42483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376280" y="2459160"/>
            <a:ext cx="6391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La scuola è un'Istituzio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finalizzata al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formazione del  cittadi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11280" y="260280"/>
            <a:ext cx="3600360" cy="1368360"/>
          </a:xfrm>
          <a:prstGeom prst="cloudCallout">
            <a:avLst>
              <a:gd name="adj1" fmla="val -37259"/>
              <a:gd name="adj2" fmla="val 67287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42483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2781360"/>
            <a:ext cx="3313080" cy="251928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371628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219640" y="3500280"/>
            <a:ext cx="28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cittadin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11280" y="260280"/>
            <a:ext cx="3600360" cy="1368360"/>
          </a:xfrm>
          <a:prstGeom prst="cloudCallout">
            <a:avLst>
              <a:gd name="adj1" fmla="val -37259"/>
              <a:gd name="adj2" fmla="val 67287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42483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611280" y="2492280"/>
            <a:ext cx="777708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La scuola è un sistema formativ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in rete con altri sistem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11640" y="1283760"/>
            <a:ext cx="216036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427640" y="3716280"/>
            <a:ext cx="28872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35280" y="371628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16360" y="414972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67280" y="4149720"/>
            <a:ext cx="28872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48000" y="4221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7672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3284640"/>
            <a:ext cx="288720" cy="21564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27640" y="4653000"/>
            <a:ext cx="28872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84720" y="342900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3280" y="3860640"/>
            <a:ext cx="216000" cy="28764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3236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3500280"/>
            <a:ext cx="0" cy="64944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850920" y="4292640"/>
            <a:ext cx="289080" cy="36036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8472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6400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71640" y="4292640"/>
            <a:ext cx="289080" cy="36036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51280" y="3860640"/>
            <a:ext cx="216000" cy="28764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284720" y="3789360"/>
            <a:ext cx="288720" cy="36036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9564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1636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484360" y="1341360"/>
            <a:ext cx="4514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sistema formativo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in rete con altri sistemi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2411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1640" y="4365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3789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6400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0364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16360" y="38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27640" y="33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92720" y="371628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3284640"/>
            <a:ext cx="289080" cy="21564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80000" y="407664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036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71640" y="371628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4221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63528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5600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333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11280" y="260280"/>
            <a:ext cx="3600360" cy="1368360"/>
          </a:xfrm>
          <a:prstGeom prst="cloudCallout">
            <a:avLst>
              <a:gd name="adj1" fmla="val -37259"/>
              <a:gd name="adj2" fmla="val 67287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42483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611280" y="2492280"/>
            <a:ext cx="777708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quali propriet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h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questo sistema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940360" y="764640"/>
            <a:ext cx="2160720" cy="3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l Siste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692360" y="1700280"/>
            <a:ext cx="5327640" cy="367344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03640" y="306864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Isolato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33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940360" y="764640"/>
            <a:ext cx="2160720" cy="3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non isola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843280" y="328464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ermeab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33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940360" y="764640"/>
            <a:ext cx="2160720" cy="3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l Siste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24000" y="206064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400536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278136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16360" y="4581360"/>
            <a:ext cx="432000" cy="287640"/>
          </a:xfrm>
          <a:custGeom>
            <a:avLst/>
            <a:gdLst>
              <a:gd name="textAreaLeft" fmla="*/ 67320 w 432000"/>
              <a:gd name="textAreaRight" fmla="*/ 378000 w 43200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3355920"/>
            <a:ext cx="432000" cy="287280"/>
          </a:xfrm>
          <a:custGeom>
            <a:avLst/>
            <a:gdLst>
              <a:gd name="textAreaLeft" fmla="*/ 67320 w 432000"/>
              <a:gd name="textAreaRight" fmla="*/ 378000 w 4320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14972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133720"/>
            <a:ext cx="432000" cy="287280"/>
          </a:xfrm>
          <a:custGeom>
            <a:avLst/>
            <a:gdLst>
              <a:gd name="textAreaLeft" fmla="*/ 67320 w 432000"/>
              <a:gd name="textAreaRight" fmla="*/ 378000 w 4320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472428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35640" y="292428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5084640"/>
            <a:ext cx="431640" cy="28764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42100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364500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8360" y="33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23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26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28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30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32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34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36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38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40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42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44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46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11640" y="1341360"/>
            <a:ext cx="216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non isolato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permeab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843280" y="328464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Permeab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9280" y="350028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2565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Istanze sociali e 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87280" y="198900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4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4797360"/>
            <a:ext cx="1439640" cy="433440"/>
          </a:xfrm>
          <a:prstGeom prst="rightArrow">
            <a:avLst>
              <a:gd name="adj1" fmla="val 50000"/>
              <a:gd name="adj2" fmla="val 8303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5280" y="33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11640" y="1341360"/>
            <a:ext cx="216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non isolato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permeab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843280" y="234936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organizz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280" y="350028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9280" y="2565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Istanze sociali e 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87280" y="198900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797360"/>
            <a:ext cx="1439640" cy="433440"/>
          </a:xfrm>
          <a:prstGeom prst="rightArrow">
            <a:avLst>
              <a:gd name="adj1" fmla="val 50000"/>
              <a:gd name="adj2" fmla="val 8303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09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27640" y="3716280"/>
            <a:ext cx="28872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635280" y="371628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414972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67280" y="4149720"/>
            <a:ext cx="28872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48000" y="4221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67280" y="3284640"/>
            <a:ext cx="288720" cy="21564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27640" y="4653000"/>
            <a:ext cx="28872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0836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98764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84720" y="342900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43280" y="3860640"/>
            <a:ext cx="216000" cy="28764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11640" y="3500280"/>
            <a:ext cx="0" cy="64944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850920" y="4292640"/>
            <a:ext cx="289080" cy="36036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6400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571640" y="4292640"/>
            <a:ext cx="289080" cy="36036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1280" y="3860640"/>
            <a:ext cx="216000" cy="28764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284720" y="3789360"/>
            <a:ext cx="288720" cy="36036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7672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9564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1636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 cura di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M. Jacono, D. Arrigoni, M. Tes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2565360"/>
            <a:ext cx="7199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memoria: la legge istituti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i “occhiali” per leggere il   cambiamento nel tem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parole chia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problemi aper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804000" y="6076800"/>
            <a:ext cx="179388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200"/>
                                </p:to>
                              </p:animCl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200"/>
                                </p:to>
                              </p:animCl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2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2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11640" y="1341360"/>
            <a:ext cx="216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non isolato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permeab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843280" y="234936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organizz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9280" y="350028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9280" y="2565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Istanze sociali e 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87280" y="198900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1280" y="4797360"/>
            <a:ext cx="1439640" cy="433440"/>
          </a:xfrm>
          <a:prstGeom prst="rightArrow">
            <a:avLst>
              <a:gd name="adj1" fmla="val 50000"/>
              <a:gd name="adj2" fmla="val 8303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27640" y="3716280"/>
            <a:ext cx="28872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35280" y="371628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414972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67280" y="4149720"/>
            <a:ext cx="28872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48000" y="4221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07672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067280" y="3284640"/>
            <a:ext cx="288720" cy="21564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27640" y="4653000"/>
            <a:ext cx="28872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0836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8764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7672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9564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1636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56000" y="342900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43280" y="3860640"/>
            <a:ext cx="14472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0364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35600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24360" y="386064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3528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284720" y="393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92436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57200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3528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35600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51280" y="38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9640" y="33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2" dur="2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2000" fill="hold"/>
                                        <p:tgtEl>
                                          <p:spTgt spid="3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2000" fill="hold"/>
                                        <p:tgtEl>
                                          <p:spTgt spid="3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9000"/>
                            </p:stCondLst>
                            <p:childTnLst>
                              <p:par>
                                <p:cTn id="30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6" dur="2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2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2000" fill="hold"/>
                                        <p:tgtEl>
                                          <p:spTgt spid="3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5" dur="2000" fill="hold"/>
                                        <p:tgtEl>
                                          <p:spTgt spid="3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3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1" dur="2000" fill="hold"/>
                                        <p:tgtEl>
                                          <p:spTgt spid="3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4" dur="2000" fill="hold"/>
                                        <p:tgtEl>
                                          <p:spTgt spid="3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7" dur="2000" fill="hold"/>
                                        <p:tgtEl>
                                          <p:spTgt spid="3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11640" y="1341360"/>
            <a:ext cx="216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non isolato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permeabile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organizza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2843280" y="234936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compl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9280" y="350028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9280" y="2565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Istanze sociali e 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87280" y="198900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1280" y="4797360"/>
            <a:ext cx="1439640" cy="433440"/>
          </a:xfrm>
          <a:prstGeom prst="rightArrow">
            <a:avLst>
              <a:gd name="adj1" fmla="val 50000"/>
              <a:gd name="adj2" fmla="val 8303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7672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9564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71636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42900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643280" y="3860640"/>
            <a:ext cx="14472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00364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5600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24360" y="386064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3528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284720" y="393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92436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57200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63528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35600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51280" y="38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9640" y="333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9" dur="2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55280" y="28440"/>
            <a:ext cx="6870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342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Sistema scolastico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7093080" y="6021360"/>
            <a:ext cx="1431720" cy="5065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755640" y="1844640"/>
            <a:ext cx="7561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n isolato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 permeabil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 organizz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mpl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450864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Varia nel te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0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40360" y="981000"/>
            <a:ext cx="21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l Sistema si trasfor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24000" y="206064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48360" y="400536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4000" y="278136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716360" y="4581360"/>
            <a:ext cx="432000" cy="287640"/>
          </a:xfrm>
          <a:custGeom>
            <a:avLst/>
            <a:gdLst>
              <a:gd name="textAreaLeft" fmla="*/ 67320 w 432000"/>
              <a:gd name="textAreaRight" fmla="*/ 378000 w 43200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3355920"/>
            <a:ext cx="432000" cy="287280"/>
          </a:xfrm>
          <a:custGeom>
            <a:avLst/>
            <a:gdLst>
              <a:gd name="textAreaLeft" fmla="*/ 67320 w 432000"/>
              <a:gd name="textAreaRight" fmla="*/ 378000 w 4320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50920" y="414972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076720" y="2133720"/>
            <a:ext cx="432000" cy="287280"/>
          </a:xfrm>
          <a:custGeom>
            <a:avLst/>
            <a:gdLst>
              <a:gd name="textAreaLeft" fmla="*/ 67320 w 432000"/>
              <a:gd name="textAreaRight" fmla="*/ 378000 w 4320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72428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435640" y="292428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" y="5084640"/>
            <a:ext cx="431640" cy="28764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242100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5280" y="364500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8360" y="33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79640" y="5516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base ai flu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380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evt="end">
                                        <p:tn val="379"/>
                                      </p:cond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384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386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388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390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392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394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396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398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400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402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405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7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692360" y="2492280"/>
            <a:ext cx="4103640" cy="295272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300720" y="1916280"/>
            <a:ext cx="21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non isolato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permeabile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organizzato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comple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971640" y="3860640"/>
            <a:ext cx="718920" cy="289080"/>
          </a:xfrm>
          <a:prstGeom prst="rightArrow">
            <a:avLst>
              <a:gd name="adj1" fmla="val 50000"/>
              <a:gd name="adj2" fmla="val 62173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8360" y="33577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Istanze sociali e cul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63640" y="2492280"/>
            <a:ext cx="863640" cy="217440"/>
          </a:xfrm>
          <a:prstGeom prst="rightArrow">
            <a:avLst>
              <a:gd name="adj1" fmla="val 50000"/>
              <a:gd name="adj2" fmla="val 9929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87280" y="2205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547640" y="4941720"/>
            <a:ext cx="719280" cy="289080"/>
          </a:xfrm>
          <a:prstGeom prst="rightArrow">
            <a:avLst>
              <a:gd name="adj1" fmla="val 50000"/>
              <a:gd name="adj2" fmla="val 62204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84360" y="4437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528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96000" y="3716280"/>
            <a:ext cx="719280" cy="289080"/>
          </a:xfrm>
          <a:prstGeom prst="rightArrow">
            <a:avLst>
              <a:gd name="adj1" fmla="val 50000"/>
              <a:gd name="adj2" fmla="val 62204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43640" y="3645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516720" y="342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ittad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451640" y="4076640"/>
            <a:ext cx="0" cy="2016360"/>
          </a:xfrm>
          <a:prstGeom prst="line">
            <a:avLst/>
          </a:prstGeom>
          <a:ln w="1908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68360" y="6093000"/>
            <a:ext cx="6912000" cy="0"/>
          </a:xfrm>
          <a:prstGeom prst="line">
            <a:avLst/>
          </a:prstGeom>
          <a:ln w="1908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68360" y="4076280"/>
            <a:ext cx="0" cy="2016360"/>
          </a:xfrm>
          <a:prstGeom prst="line">
            <a:avLst/>
          </a:prstGeom>
          <a:ln w="1908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68360" y="4076640"/>
            <a:ext cx="503280" cy="0"/>
          </a:xfrm>
          <a:prstGeom prst="line">
            <a:avLst/>
          </a:prstGeom>
          <a:ln w="1908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68360" y="2636640"/>
            <a:ext cx="0" cy="1439640"/>
          </a:xfrm>
          <a:prstGeom prst="line">
            <a:avLst/>
          </a:prstGeom>
          <a:ln w="1908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8360" y="2637000"/>
            <a:ext cx="1295280" cy="0"/>
          </a:xfrm>
          <a:prstGeom prst="line">
            <a:avLst/>
          </a:prstGeom>
          <a:ln w="1908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68360" y="5157720"/>
            <a:ext cx="1008000" cy="0"/>
          </a:xfrm>
          <a:prstGeom prst="line">
            <a:avLst/>
          </a:prstGeom>
          <a:ln w="1908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050920" y="3645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gol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500"/>
                            </p:stCondLst>
                            <p:childTnLst>
                              <p:par>
                                <p:cTn id="4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500"/>
                            </p:stCondLst>
                            <p:childTnLst>
                              <p:par>
                                <p:cTn id="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5280" y="28440"/>
            <a:ext cx="6870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7342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Sistema scolastico che varia nel temp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7093080" y="6021360"/>
            <a:ext cx="1431720" cy="5065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95280" y="2276640"/>
            <a:ext cx="87487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it-IT" sz="3200" spc="-1" strike="noStrike" u="sng">
                <a:solidFill>
                  <a:srgbClr val="ffff00"/>
                </a:solidFill>
                <a:uFillTx/>
                <a:latin typeface="Comic Sans MS"/>
              </a:rPr>
              <a:t>permeabile</a:t>
            </a: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:           aperto/chiuso dipendenza/autoreferenzialità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- </a:t>
            </a:r>
            <a:r>
              <a:rPr b="0" lang="it-IT" sz="3200" spc="-1" strike="noStrike" u="sng">
                <a:solidFill>
                  <a:srgbClr val="ffff00"/>
                </a:solidFill>
                <a:uFillTx/>
                <a:latin typeface="Comic Sans MS"/>
              </a:rPr>
              <a:t>organizzato</a:t>
            </a: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:             flessibile/rigido </a:t>
            </a:r>
            <a:r>
              <a:rPr b="0" lang="it-IT" sz="3200" spc="-1" strike="noStrike" u="sng">
                <a:solidFill>
                  <a:srgbClr val="ffff00"/>
                </a:solidFill>
                <a:uFillTx/>
                <a:latin typeface="Comic Sans MS"/>
              </a:rPr>
              <a:t>autonomia</a:t>
            </a: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/dipend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                                 </a:t>
            </a:r>
            <a:r>
              <a:rPr b="0" lang="it-IT" sz="3200" spc="-1" strike="noStrike" u="sng">
                <a:solidFill>
                  <a:srgbClr val="ffff00"/>
                </a:solidFill>
                <a:uFillTx/>
                <a:latin typeface="Comic Sans MS"/>
              </a:rPr>
              <a:t>GEST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635280" y="2637000"/>
            <a:ext cx="5763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5280" y="4292640"/>
            <a:ext cx="5763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35280" y="5445000"/>
            <a:ext cx="5763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"/>
                            </p:stCondLst>
                            <p:childTnLst>
                              <p:par>
                                <p:cTn id="4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75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250"/>
                            </p:stCondLst>
                            <p:childTnLst>
                              <p:par>
                                <p:cTn id="47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25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75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250"/>
                            </p:stCondLst>
                            <p:childTnLst>
                              <p:par>
                                <p:cTn id="4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55280" y="28440"/>
            <a:ext cx="6870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7342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Sistema scolastico che varia nel temp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7093080" y="6021360"/>
            <a:ext cx="1431720" cy="5065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79280" y="2349360"/>
            <a:ext cx="87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it-IT" sz="3200" spc="-1" strike="noStrike" u="sng">
                <a:solidFill>
                  <a:srgbClr val="ffff00"/>
                </a:solidFill>
                <a:uFillTx/>
                <a:latin typeface="Comic Sans MS"/>
              </a:rPr>
              <a:t>Complesso</a:t>
            </a: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                     relazioni             democratico/gerarchico, autocentrico/eterocen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fff00"/>
                </a:solidFill>
                <a:uFillTx/>
                <a:latin typeface="Comic Sans MS"/>
              </a:rPr>
              <a:t>Regolato</a:t>
            </a: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                        flu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Auto/eterorego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                       </a:t>
            </a: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Conformità/non conform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                       </a:t>
            </a:r>
            <a:r>
              <a:rPr b="0" lang="it-IT" sz="3200" spc="-1" strike="noStrike" u="sng">
                <a:solidFill>
                  <a:srgbClr val="ffff00"/>
                </a:solidFill>
                <a:uFillTx/>
                <a:latin typeface="Comic Sans MS"/>
              </a:rPr>
              <a:t>Gestione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35280" y="2708280"/>
            <a:ext cx="5763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19640" y="4724280"/>
            <a:ext cx="57600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3500"/>
                            </p:stCondLst>
                            <p:childTnLst>
                              <p:par>
                                <p:cTn id="5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lla premessa alla legge istituti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734220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..L’istruzione è </a:t>
            </a:r>
            <a:r>
              <a:rPr b="1" i="1" lang="en-US" sz="2400" spc="-1" strike="noStrike">
                <a:solidFill>
                  <a:srgbClr val="00b200"/>
                </a:solidFill>
                <a:latin typeface="Comic Sans MS"/>
              </a:rPr>
              <a:t>gratuita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                           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ed </a:t>
            </a:r>
            <a:r>
              <a:rPr b="1" i="1" lang="en-US" sz="2400" spc="-1" strike="noStrike">
                <a:solidFill>
                  <a:srgbClr val="00b200"/>
                </a:solidFill>
                <a:latin typeface="Comic Sans MS"/>
              </a:rPr>
              <a:t>obbligatoria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093080" y="6021360"/>
            <a:ext cx="14317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" dur="1" fill="hold"/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’istruzione gratuita ed obbligato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27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703dff"/>
                </a:solidFill>
                <a:latin typeface="Comic Sans MS"/>
              </a:rPr>
              <a:t>…</a:t>
            </a:r>
            <a:r>
              <a:rPr b="0" lang="it-IT" sz="2800" spc="-1" strike="noStrike">
                <a:solidFill>
                  <a:srgbClr val="703dff"/>
                </a:solidFill>
                <a:latin typeface="Comic Sans MS"/>
              </a:rPr>
              <a:t>..Concorre a promuovere</a:t>
            </a:r>
            <a:r>
              <a:rPr b="0" lang="it-IT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b200"/>
                </a:solidFill>
                <a:latin typeface="Comic Sans MS"/>
              </a:rPr>
              <a:t>               </a:t>
            </a:r>
            <a:r>
              <a:rPr b="0" lang="it-IT" sz="2800" spc="-1" strike="noStrike">
                <a:solidFill>
                  <a:srgbClr val="00b200"/>
                </a:solidFill>
                <a:latin typeface="Comic Sans MS"/>
              </a:rPr>
              <a:t>la </a:t>
            </a:r>
            <a:r>
              <a:rPr b="1" i="1" lang="it-IT" sz="2800" spc="-1" strike="noStrike">
                <a:solidFill>
                  <a:srgbClr val="00b200"/>
                </a:solidFill>
                <a:latin typeface="Comic Sans MS"/>
              </a:rPr>
              <a:t>formazione dell’uom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b200"/>
                </a:solidFill>
                <a:latin typeface="Comic Sans MS"/>
              </a:rPr>
              <a:t>                      </a:t>
            </a:r>
            <a:r>
              <a:rPr b="0" lang="it-IT" sz="2800" spc="-1" strike="noStrike">
                <a:solidFill>
                  <a:srgbClr val="00b200"/>
                </a:solidFill>
                <a:latin typeface="Comic Sans MS"/>
              </a:rPr>
              <a:t>e del </a:t>
            </a:r>
            <a:r>
              <a:rPr b="1" i="1" lang="it-IT" sz="2800" spc="-1" strike="noStrike">
                <a:solidFill>
                  <a:srgbClr val="00b200"/>
                </a:solidFill>
                <a:latin typeface="Comic Sans MS"/>
              </a:rPr>
              <a:t>cittadino…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877080" y="5932440"/>
            <a:ext cx="15048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1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’istruzione gratuita ed obbligato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2707920"/>
            <a:ext cx="8134200" cy="18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..Favorisce </a:t>
            </a:r>
            <a:r>
              <a:rPr b="1" i="1" lang="en-US" sz="2800" spc="-1" strike="noStrike">
                <a:solidFill>
                  <a:srgbClr val="00b200"/>
                </a:solidFill>
                <a:latin typeface="Comic Sans MS"/>
              </a:rPr>
              <a:t>l’orientamento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              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dei giovani…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020000" y="6021360"/>
            <a:ext cx="1617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" dur="1" fill="hold"/>
                                  <p:tgtEl>
                                    <p:spTgt spid="1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Le parole chiav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3772080" cy="1573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77080" y="6093000"/>
            <a:ext cx="16905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213372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truzio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3771720" cy="1573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11280" y="393372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m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3280" y="393372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ient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530064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ittadi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732720" y="6021360"/>
            <a:ext cx="16920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95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5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2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Le parole chiav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772080" cy="1573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877080" y="6093000"/>
            <a:ext cx="1690560" cy="596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835280" y="4292640"/>
            <a:ext cx="65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Valgono ancora ogg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Qual è il l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501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significat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mph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1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2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5" dur="1" fill="hold"/>
                                  <p:tgtEl>
                                    <p:spTgt spid="1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Le parole chiav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1971720" cy="822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877080" y="6093000"/>
            <a:ext cx="1690560" cy="596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55640" y="2349360"/>
            <a:ext cx="7345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Per “ dare “ il significato è necess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Costruire il cont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Per costruire il contesto è necess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Definire un modello di let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4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6:59:11Z</dcterms:created>
  <dc:creator>MARCELLA</dc:creator>
  <dc:description/>
  <dc:language>en-US</dc:language>
  <cp:lastModifiedBy>MARCELLA</cp:lastModifiedBy>
  <dcterms:modified xsi:type="dcterms:W3CDTF">2003-09-30T20:37:37Z</dcterms:modified>
  <cp:revision>96</cp:revision>
  <dc:subject/>
  <dc:title>Le parole chiave del cambiamento; i nodi della rete formativa</dc:title>
</cp:coreProperties>
</file>