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71D-F557-46B9-8C5A-E88C29ED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F45-C4B5-4737-8EA5-4614A78B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09C-6C2B-4971-A3A4-7E24D29A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54A-983E-42B3-92AF-0C327609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567-481C-4D79-A4F0-E930202B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543-C1D0-477D-8E8D-8A5FDF94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1E5-C960-4B5B-87F4-CB2CE197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E2C-5F26-4A69-87BC-5DD4C00D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875-F70C-49CC-A2B3-52ABC193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E42-A70D-4E47-928B-B93E6E6D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4B1-389C-4FF8-AA11-3AF1F996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A94-35A4-44D0-8437-3ACBD194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24EF-3326-4334-B570-2857DBE58B7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71520" y="923760"/>
            <a:ext cx="6600960" cy="501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66960" y="1828800"/>
            <a:ext cx="72100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94472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2843280" y="4437000"/>
          <a:ext cx="5002200" cy="148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4437000"/>
                    <a:ext cx="500220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987640" y="57340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fficio Formazione ed aggior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987640" y="2403360"/>
          <a:ext cx="486720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2403360"/>
                    <a:ext cx="48672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87640" y="20541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il Patrocinio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2781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orato Edilizia Scolastica e 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3573360"/>
            <a:ext cx="45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la collaborazion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91240" y="549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il contributo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132000" y="1052640"/>
            <a:ext cx="3772080" cy="90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448000" cy="1086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87640" y="1773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87640" y="314172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3573360"/>
            <a:ext cx="453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35280" y="189000"/>
          <a:ext cx="3776760" cy="666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189000"/>
                    <a:ext cx="377676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68360" y="2708280"/>
            <a:ext cx="1800000" cy="35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5589720"/>
            <a:ext cx="2808360" cy="992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1800360" cy="3554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00720" y="476280"/>
            <a:ext cx="2761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si ringraz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1484280"/>
            <a:ext cx="489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r la graf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+ G  ( Achilli Ghizzardi Associati ) Mi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onio Ber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2997360"/>
            <a:ext cx="48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r la rassegna di fil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lavio Vergerio e la Mediateca Provin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4005360"/>
            <a:ext cx="511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r la ricerca bibliograf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breria Seghez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5280" y="508464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r il web edi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rio Magg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4:01:15Z</dcterms:created>
  <dc:creator>MARCELLA</dc:creator>
  <dc:description/>
  <dc:language>en-US</dc:language>
  <cp:lastModifiedBy>Berti</cp:lastModifiedBy>
  <dcterms:modified xsi:type="dcterms:W3CDTF">2004-01-12T21:28:18Z</dcterms:modified>
  <cp:revision>21</cp:revision>
  <dc:subject/>
  <dc:title>Diapositiva 1</dc:title>
</cp:coreProperties>
</file>